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1D0-3F2E-4EE5-B237-7FF17412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B30-BBD1-4F80-AD3A-5CD041E4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E6E-0E7E-44ED-A2AD-2074FC0C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6002-B125-40C6-9F5F-8797887B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9B5-92F6-4DC4-877F-A2BD2832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213-FB00-4209-B6CD-54A1C040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44D-EB4E-4468-9859-8DBC8120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D11-582A-41F1-9305-748B0171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BB7-DF7C-4D50-B375-11D6D74B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17D-0204-4952-847E-013BBE4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399-AF77-4C09-83AA-FBAB895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8CD-0C70-4C3F-9094-4E0B553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CF56-F15D-469D-9105-06354E1A5A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517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风  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10666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童年的时候，我们这些孩子，最大的快乐就是做风筝，放风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25600" y="1989000"/>
            <a:ext cx="6278400" cy="1922760"/>
            <a:chOff x="1425600" y="1989000"/>
            <a:chExt cx="6278400" cy="1922760"/>
          </a:xfrm>
        </p:grpSpPr>
        <p:sp>
          <p:nvSpPr>
            <p:cNvPr id="85" name=""/>
            <p:cNvSpPr/>
            <p:nvPr/>
          </p:nvSpPr>
          <p:spPr>
            <a:xfrm>
              <a:off x="1425600" y="290340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快乐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1680" y="198900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最大的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600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精心做着，心中充满了憧憬和希望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做好了，却什么也不像了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228600"/>
            <a:ext cx="2971800" cy="1371600"/>
          </a:xfrm>
          <a:prstGeom prst="wedgeEllipseCallout">
            <a:avLst>
              <a:gd name="adj1" fmla="val 33120"/>
              <a:gd name="adj2" fmla="val 5405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查词典知道了“憧憬”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350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憧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093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憧憬：向往。如：我们心中充满着对美好未来的憧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645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依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9500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依然：依旧、仍然、仍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486400"/>
            <a:ext cx="2971800" cy="1371600"/>
          </a:xfrm>
          <a:prstGeom prst="wedgeEllipseCallout">
            <a:avLst>
              <a:gd name="adj1" fmla="val -28203"/>
              <a:gd name="adj2" fmla="val -94791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通过换近义词知道了“依然”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风筝越飞越高，在空中翩翩飞舞着，我们快活地喊叫着，在田野里拼命地奔跑。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42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翩翩飞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3357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快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3933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拼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风筝越飞越高，我们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         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飞起来了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0" y="11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907920"/>
            <a:ext cx="6048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  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高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草长莺飞二月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拂堤杨柳醉春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儿童散学归来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忙趁东风放纸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549360"/>
            <a:ext cx="856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早晨玩到下午，我们还是歇不下来，牵着风筝在田野里奔跑。风筝越飞越高，似乎飞到了云彩上。忽然吹来一阵风，线嘣地断了。风筝在空中抖动了一下，便极快地飞走了。我们大惊失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呼万唤，那风筝越来越小，倏地便没了踪影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5280" y="3860640"/>
            <a:ext cx="9666360" cy="3381120"/>
            <a:chOff x="395280" y="3860640"/>
            <a:chExt cx="9666360" cy="3381120"/>
          </a:xfrm>
        </p:grpSpPr>
        <p:sp>
          <p:nvSpPr>
            <p:cNvPr id="109" name=""/>
            <p:cNvSpPr/>
            <p:nvPr/>
          </p:nvSpPr>
          <p:spPr>
            <a:xfrm>
              <a:off x="5003640" y="3860640"/>
              <a:ext cx="505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我们大惊失色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280" y="4941720"/>
              <a:ext cx="900108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千呼万唤，那风筝越来越小，倏地便没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280" y="602136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踪影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867280" y="40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大惊失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1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呼万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5157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5950080"/>
            <a:ext cx="74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惊失色：形容非常吃惊，脸色都变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0000" y="4581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倏地：极快地，迅速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493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早晨玩到下午，我们还是歇不下来，牵着风筝在田野里奔跑。风筝越飞越高，似乎飞到了云彩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都哭了，在田野里四处寻找，找了半个 下午，还是没有踪影。我们垂头丧气地坐在田埂上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1125360"/>
            <a:ext cx="16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都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364500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垂头丧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2852640"/>
            <a:ext cx="7201080" cy="863640"/>
            <a:chOff x="900000" y="2852640"/>
            <a:chExt cx="7201080" cy="863640"/>
          </a:xfrm>
        </p:grpSpPr>
        <p:sp>
          <p:nvSpPr>
            <p:cNvPr id="123" name=""/>
            <p:cNvSpPr/>
            <p:nvPr/>
          </p:nvSpPr>
          <p:spPr>
            <a:xfrm>
              <a:off x="7093080" y="285264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71628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00000" y="537372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垂头丧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：形容情绪低落、失望懊丧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396360" cy="6915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620640"/>
            <a:ext cx="843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都哭了，在田野里四处寻找，找了半个 下午，还是没有踪影。我们垂头丧气地坐在田埂上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77691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都哭了，在田野里四处寻找，找了半个 下午，还是没有踪影。我们垂头丧气地坐在田埂上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抬头，看见远远的水面上半沉半浮着一个巨大的木轮，不停地转着，将水扬起来，半圈儿水在闪着白光。那里是我们村的水磨坊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那儿找过了吗？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没找过，说不定幸福鸟就落在那儿呢。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我们向那房子跑去，继续寻找我们的“幸福鸟”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向那房子跑去，继续寻找我们的“幸福鸟”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87280" y="333360"/>
            <a:ext cx="882036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外延伸：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必做作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１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回家后把课文再美美地读一读。</a:t>
            </a:r>
            <a:br>
              <a:rPr sz="2400"/>
            </a:b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２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把喜欢的句子抄下来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做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１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有条件的亲自做一只你心中的“幸福鸟”。</a:t>
            </a:r>
            <a:br>
              <a:rPr sz="2400"/>
            </a:b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２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把你知道的描写心情的词语与大家交流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0" y="11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907920"/>
            <a:ext cx="6048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  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高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草长莺飞二月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拂堤杨柳醉春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儿童散学归来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忙趁东风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纸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990720"/>
            <a:ext cx="7315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字音，读通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想课文围绕风筝讲了哪些事，分别在哪些自然段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3860640"/>
            <a:ext cx="7696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翩翩飞舞    歇不下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头丧气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凌空飞起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457200"/>
            <a:ext cx="8229600" cy="1465560"/>
            <a:chOff x="685800" y="457200"/>
            <a:chExt cx="8229600" cy="1465560"/>
          </a:xfrm>
        </p:grpSpPr>
        <p:sp>
          <p:nvSpPr>
            <p:cNvPr id="52" name=""/>
            <p:cNvSpPr/>
            <p:nvPr/>
          </p:nvSpPr>
          <p:spPr>
            <a:xfrm>
              <a:off x="762120" y="914400"/>
              <a:ext cx="815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憧憬   凌空   田埂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4572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hō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jǐ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lí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ě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55640" y="2133720"/>
            <a:ext cx="7697520" cy="1373400"/>
            <a:chOff x="755640" y="2133720"/>
            <a:chExt cx="7697520" cy="1373400"/>
          </a:xfrm>
        </p:grpSpPr>
        <p:sp>
          <p:nvSpPr>
            <p:cNvPr id="55" name=""/>
            <p:cNvSpPr/>
            <p:nvPr/>
          </p:nvSpPr>
          <p:spPr>
            <a:xfrm>
              <a:off x="755640" y="2498760"/>
              <a:ext cx="769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依然   磨坊    奔跑</a:t>
              </a:r>
              <a:r>
                <a:rPr b="1" lang="zh-CN" sz="5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57520" y="21337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ò  fá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19640" y="2492280"/>
            <a:ext cx="23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磨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50920" y="31417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33577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潍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1628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磨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126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mò  fá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7080" y="2637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84720" y="1197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mò  fá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1557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磨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2924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éi    fā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13372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2205000"/>
            <a:ext cx="1150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155736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170028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97040" y="2602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我会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1484280"/>
          <a:ext cx="4032360" cy="4319640"/>
        </p:xfrm>
        <a:graphic>
          <a:graphicData uri="http://schemas.openxmlformats.org/drawingml/2006/table">
            <a:tbl>
              <a:tblPr/>
              <a:tblGrid>
                <a:gridCol w="2124360"/>
                <a:gridCol w="190800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59640" y="1228680"/>
            <a:ext cx="2314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ff"/>
                </a:solidFill>
                <a:latin typeface="Arial"/>
                <a:ea typeface="楷体_GB2312"/>
              </a:rPr>
              <a:t>磨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1484280"/>
          <a:ext cx="4032360" cy="4319640"/>
        </p:xfrm>
        <a:graphic>
          <a:graphicData uri="http://schemas.openxmlformats.org/drawingml/2006/table">
            <a:tbl>
              <a:tblPr/>
              <a:tblGrid>
                <a:gridCol w="2124000"/>
                <a:gridCol w="190836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5076720" y="1413000"/>
            <a:ext cx="36100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ff"/>
                </a:solidFill>
                <a:latin typeface="Arial"/>
                <a:ea typeface="楷体_GB2312"/>
              </a:rPr>
              <a:t>坊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6765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小时候，我和小伙伴一起（    ）、（     ）和（    ）的情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549360"/>
            <a:ext cx="2085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思考：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2421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做风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421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放风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18600" y="2421000"/>
            <a:ext cx="11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找风筝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30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1640" y="306864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——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4:14:51Z</dcterms:created>
  <dc:creator>ryp</dc:creator>
  <dc:description/>
  <dc:language>en-US</dc:language>
  <cp:lastModifiedBy>User</cp:lastModifiedBy>
  <dcterms:modified xsi:type="dcterms:W3CDTF">2013-10-09T02:15:15Z</dcterms:modified>
  <cp:revision>25</cp:revision>
  <dc:subject/>
  <dc:title>PowerPoint 演示文稿</dc:title>
</cp:coreProperties>
</file>